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4D22-73AD-44A0-8B4B-74A7EFD9EB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8B1B-B0E3-49D2-ABB8-214F4B85B87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3541-A98C-4ECA-8D4E-081D4D218E8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1600-835A-4993-B39D-A74C3691E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1065D-F818-4148-81B6-2D5243D6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4902D-3BC6-44B0-81CC-6BA0629AB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1413E-DD7C-43FE-B70B-0D4A9B033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7AE13-65E5-416E-8F46-1254A26E5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CF2D1-58FC-4987-AB92-2FDE5BD47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01FE-15E3-4AB7-9133-AAA01E473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72AC9-6F5B-4B3E-BFFA-43866D58B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C5153-64AB-414F-943B-0DFDD9913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17464-5193-4067-98AB-7E472A14C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A1F99-DE58-4486-9474-BB40EB726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8E1C-BE7C-44CE-BC0D-2685A4FD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FAE68-7260-4820-8899-B7725970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8A85A-7094-4E47-88F5-350EC071F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C9F68-3629-43A2-926C-59FA0399D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9E4AA-01ED-436A-BBDF-94BEF431D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3CD62-5ADE-40E4-B6C0-DC807BC52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FFE6E-C45D-45D6-9525-94D3BFF83D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EFE2F-9381-4A54-8E08-82B4CDAAE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5C5E4-0232-43A1-9342-5836B7852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84547-ECB2-4855-ABD2-7539852FF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0C48E-F1E4-44A9-9958-6D26081F4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B0E0C-A01A-4C7A-B253-C93F5D0C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472D4-78D3-4102-8BEB-46D0BEDD9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29641-330B-4095-831B-7137EC4A7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15153-6A70-428E-807B-F99854B34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C4B69-CB16-4758-898F-3F768FFF3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96718-3636-4D42-A883-15E4CF80E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B1610-1E54-47FB-BF86-192D2C0E6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9B46B-6421-4678-A821-AB5BBD4F58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C18B4B-CB02-479C-88D4-CD898AB12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43709-2B05-47AF-9A19-FF5F9CD91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208913-7AB0-40A6-9130-DB1962659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B779C-F570-442E-9D97-E0F4F7BB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D1178-53EE-49AC-98A7-19D6B5C7C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C3908-4819-407C-A12A-0179FA728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F7EE4-C3E8-4EF4-88EA-C24B8E6D4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6508D-8D2E-4870-87F0-D16AB25FC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8B6CB-1967-432D-811A-42DE2455D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DC505-933C-49FF-8950-7D196E435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146C2-A3F2-4CBF-B2A7-C671142C7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F8977-D19E-4762-B3F7-AA6321858E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E536F-B7A7-4B65-996D-3E49EA78A6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107A2-022B-429C-B06D-3C47A71EBD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7CCF-C2D8-472B-AF24-617463B3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83303C-2D01-4B3A-BD95-059B8B2B6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5A14E-0AA4-4E38-8E35-CDCFBD8F3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44FB3-303E-4A87-A58E-3A8523894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31F72-2B3C-49FD-981E-3D7DD72FE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5C63A-F8A2-479C-A7C1-10AA2DBE5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B32EF-1F38-45CC-B4C7-09F6F6171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077FB-7189-40A2-8326-006A5960C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982EC-424D-41D9-A10A-DC2AF68E8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E501B-54F5-4FB8-AF46-083A0B75D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85DDDF-65BB-4D29-B156-DA7EFF383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A81FB-583F-4714-9718-CECFCAC4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9A5A3F-9C9D-43B2-BCD1-746517973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ECFD-DBAD-4953-9DDB-0B14095C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EF1B-551A-481D-AA48-500522AB6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B266-20AE-47E4-8F0B-DD5B92B0C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4EFC-00A9-4CDC-A773-58F16D02040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2D96-946F-4ED1-B4D8-50914E0DAFF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1B2A-95AF-48DB-9F0F-C0F181D468B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2AB9-9E21-4557-99A6-1287865865F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D824-06D7-4435-99E1-FE4D20132DA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0280" y="1255680"/>
            <a:ext cx="8461440" cy="201132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8"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0"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1"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2"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3"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4"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7"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1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1"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26"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7"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8"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9"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0"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1"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2"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34"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35"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36"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7"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3-23T17:30:37Z</dcterms:modified>
  <cp:revision>18</cp:revision>
  <dc:subject/>
  <dc:title>Marketing Channels and Wholesaling</dc:title>
</cp:coreProperties>
</file>